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4958-21EE-4DBC-90A0-BFD96F0B49E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7280" y="701640"/>
            <a:ext cx="4670640" cy="3503520"/>
          </a:xfrm>
          <a:prstGeom prst="rect">
            <a:avLst/>
          </a:prstGeom>
          <a:noFill/>
          <a:ln w="1260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A5EA-89FC-4037-9F3E-3D56669A8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1640"/>
            <a:ext cx="4670640" cy="3503520"/>
          </a:xfrm>
          <a:prstGeom prst="rect">
            <a:avLst/>
          </a:prstGeom>
          <a:ln w="0">
            <a:noFill/>
          </a:ln>
        </p:spPr>
      </p:sp>
      <p:sp>
        <p:nvSpPr>
          <p:cNvPr id="67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4968-0FA3-472A-AD6F-53525219D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7280" y="701640"/>
            <a:ext cx="4670640" cy="3503520"/>
          </a:xfrm>
          <a:prstGeom prst="rect">
            <a:avLst/>
          </a:prstGeom>
          <a:ln w="0">
            <a:noFill/>
          </a:ln>
        </p:spPr>
      </p:sp>
      <p:sp>
        <p:nvSpPr>
          <p:cNvPr id="6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32D62-40CD-49CE-9347-007525E24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701640"/>
            <a:ext cx="4670640" cy="3503520"/>
          </a:xfrm>
          <a:prstGeom prst="rect">
            <a:avLst/>
          </a:prstGeom>
          <a:ln w="0">
            <a:noFill/>
          </a:ln>
        </p:spPr>
      </p:sp>
      <p:sp>
        <p:nvSpPr>
          <p:cNvPr id="7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B07F-BEC7-43C9-8EFF-726A82A72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1640"/>
            <a:ext cx="4670640" cy="3503520"/>
          </a:xfrm>
          <a:prstGeom prst="rect">
            <a:avLst/>
          </a:prstGeom>
          <a:ln w="0">
            <a:noFill/>
          </a:ln>
        </p:spPr>
      </p:sp>
      <p:sp>
        <p:nvSpPr>
          <p:cNvPr id="7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D7C8E-3106-4F4E-8CB3-E8C242CB2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1640"/>
            <a:ext cx="4670640" cy="3503520"/>
          </a:xfrm>
          <a:prstGeom prst="rect">
            <a:avLst/>
          </a:prstGeom>
          <a:ln w="0">
            <a:noFill/>
          </a:ln>
        </p:spPr>
      </p:sp>
      <p:sp>
        <p:nvSpPr>
          <p:cNvPr id="7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4B42-9AEE-40D4-A2C9-C1B0D80DF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7280" y="701640"/>
            <a:ext cx="4670640" cy="3503520"/>
          </a:xfrm>
          <a:prstGeom prst="rect">
            <a:avLst/>
          </a:prstGeom>
          <a:ln w="0">
            <a:noFill/>
          </a:ln>
        </p:spPr>
      </p:sp>
      <p:sp>
        <p:nvSpPr>
          <p:cNvPr id="7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02E5-1DEC-45F6-B1F8-B77BD5B2B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1640"/>
            <a:ext cx="4670640" cy="3503520"/>
          </a:xfrm>
          <a:prstGeom prst="rect">
            <a:avLst/>
          </a:prstGeom>
          <a:ln w="0">
            <a:noFill/>
          </a:ln>
        </p:spPr>
      </p:sp>
      <p:sp>
        <p:nvSpPr>
          <p:cNvPr id="7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4DE3-4501-4366-9AA9-1981F0BB0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1640"/>
            <a:ext cx="4670640" cy="3503520"/>
          </a:xfrm>
          <a:prstGeom prst="rect">
            <a:avLst/>
          </a:prstGeom>
          <a:ln w="0">
            <a:noFill/>
          </a:ln>
        </p:spPr>
      </p:sp>
      <p:sp>
        <p:nvSpPr>
          <p:cNvPr id="71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1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B425-B267-4905-918A-DC94F77CB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1640"/>
            <a:ext cx="4670640" cy="3503520"/>
          </a:xfrm>
          <a:prstGeom prst="rect">
            <a:avLst/>
          </a:prstGeom>
          <a:ln w="0">
            <a:noFill/>
          </a:ln>
        </p:spPr>
      </p:sp>
      <p:sp>
        <p:nvSpPr>
          <p:cNvPr id="71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2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1433-3705-4C0C-9F5F-B41B3DBDF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1640"/>
            <a:ext cx="4670640" cy="3503520"/>
          </a:xfrm>
          <a:prstGeom prst="rect">
            <a:avLst/>
          </a:prstGeom>
          <a:ln w="0">
            <a:noFill/>
          </a:ln>
        </p:spPr>
      </p:sp>
      <p:sp>
        <p:nvSpPr>
          <p:cNvPr id="7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BDAB-D50D-42F2-9DEF-294D06FD6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701640"/>
            <a:ext cx="4670640" cy="3503520"/>
          </a:xfrm>
          <a:prstGeom prst="rect">
            <a:avLst/>
          </a:prstGeom>
          <a:ln w="0">
            <a:noFill/>
          </a:ln>
        </p:spPr>
      </p:sp>
      <p:sp>
        <p:nvSpPr>
          <p:cNvPr id="7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9362-3810-493C-A3DF-7169C7C1A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7280" y="701640"/>
            <a:ext cx="4670640" cy="3503520"/>
          </a:xfrm>
          <a:prstGeom prst="rect">
            <a:avLst/>
          </a:prstGeom>
          <a:ln w="0">
            <a:noFill/>
          </a:ln>
        </p:spPr>
      </p:sp>
      <p:sp>
        <p:nvSpPr>
          <p:cNvPr id="67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720F-9B13-4737-958C-E27419F57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7280" y="701640"/>
            <a:ext cx="4670640" cy="3503520"/>
          </a:xfrm>
          <a:prstGeom prst="rect">
            <a:avLst/>
          </a:prstGeom>
          <a:ln w="0">
            <a:noFill/>
          </a:ln>
        </p:spPr>
      </p:sp>
      <p:sp>
        <p:nvSpPr>
          <p:cNvPr id="72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data we collect: data aimed at determining whether programs have been implemented as planned for the research design, and data aimed at determining the impact of the program, as measured by key indicators. </a:t>
            </a:r>
            <a:endParaRPr b="0" lang="en-US" sz="1200" spc="-1" strike="noStrike">
              <a:solidFill>
                <a:srgbClr val="000000"/>
              </a:solidFill>
              <a:latin typeface="Calibri"/>
            </a:endParaRPr>
          </a:p>
        </p:txBody>
      </p:sp>
      <p:sp>
        <p:nvSpPr>
          <p:cNvPr id="72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414C-4B19-46C3-A23D-104525D9A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701640"/>
            <a:ext cx="4670640" cy="3503520"/>
          </a:xfrm>
          <a:prstGeom prst="rect">
            <a:avLst/>
          </a:prstGeom>
          <a:ln w="0">
            <a:noFill/>
          </a:ln>
        </p:spPr>
      </p:sp>
      <p:sp>
        <p:nvSpPr>
          <p:cNvPr id="731"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oth paper and electronic data collection M&amp;E tools. Paper tools are simpler to create and have lower up-front costs. We often use them if we don’t want to invest so much in an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data collection has a lot of advantages: it is fast– we can often see data within a day or two– and it has data collection capabilities that don’t exist with paper surve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urveys are programmed to be run on netbooks. Our EUI survey was a minimum of 4 hours long. Paper instruments of that size are hard to work with. Netbooks allow us to administer long, complicated surveys with built-in logic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using a number of mobile M&amp;E tools.  Our CEA application will allow us to automatically collect data on when and how the CEAs and AEAs use the data base, helping us understand what part are useful and which need improvement.  We can also see if CEAs access the training modules they are supposed to use in their communities, and the CEAs can easily take GPS readings proving they were in a particular location. A separate application allows CEAs to collect weekly data on labor use using a simple survey on the mobile phone. </a:t>
            </a:r>
            <a:endParaRPr b="0" lang="en-US" sz="1200" spc="-1" strike="noStrike">
              <a:solidFill>
                <a:srgbClr val="000000"/>
              </a:solidFill>
              <a:latin typeface="Calibri"/>
            </a:endParaRPr>
          </a:p>
        </p:txBody>
      </p:sp>
      <p:sp>
        <p:nvSpPr>
          <p:cNvPr id="73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017BE-DEC5-4783-B72F-EF65BEDAB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7280" y="701640"/>
            <a:ext cx="4670640" cy="3503520"/>
          </a:xfrm>
          <a:prstGeom prst="rect">
            <a:avLst/>
          </a:prstGeom>
          <a:ln w="0">
            <a:noFill/>
          </a:ln>
        </p:spPr>
      </p:sp>
      <p:sp>
        <p:nvSpPr>
          <p:cNvPr id="73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3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17FE-D30A-4514-AD1A-8448371F7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1640"/>
            <a:ext cx="4670640" cy="3503520"/>
          </a:xfrm>
          <a:prstGeom prst="rect">
            <a:avLst/>
          </a:prstGeom>
          <a:ln w="0">
            <a:noFill/>
          </a:ln>
        </p:spPr>
      </p:sp>
      <p:sp>
        <p:nvSpPr>
          <p:cNvPr id="6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D2C3-848C-4110-BC6A-D8A806C42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701640"/>
            <a:ext cx="4670640" cy="3503520"/>
          </a:xfrm>
          <a:prstGeom prst="rect">
            <a:avLst/>
          </a:prstGeom>
          <a:ln w="0">
            <a:noFill/>
          </a:ln>
        </p:spPr>
      </p:sp>
      <p:sp>
        <p:nvSpPr>
          <p:cNvPr id="6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22A3-D8EC-42A6-A3D9-248A92267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1640"/>
            <a:ext cx="4670640" cy="3503520"/>
          </a:xfrm>
          <a:prstGeom prst="rect">
            <a:avLst/>
          </a:prstGeom>
          <a:ln w="0">
            <a:noFill/>
          </a:ln>
        </p:spPr>
      </p:sp>
      <p:sp>
        <p:nvSpPr>
          <p:cNvPr id="6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D1D1-DD41-4FC9-B78A-5B346F987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1640"/>
            <a:ext cx="4670640" cy="3503520"/>
          </a:xfrm>
          <a:prstGeom prst="rect">
            <a:avLst/>
          </a:prstGeom>
          <a:ln w="0">
            <a:noFill/>
          </a:ln>
        </p:spPr>
      </p:sp>
      <p:sp>
        <p:nvSpPr>
          <p:cNvPr id="6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854D-B49E-448E-92C6-C7450A061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1640"/>
            <a:ext cx="4670640" cy="3503520"/>
          </a:xfrm>
          <a:prstGeom prst="rect">
            <a:avLst/>
          </a:prstGeom>
          <a:ln w="0">
            <a:noFill/>
          </a:ln>
        </p:spPr>
      </p:sp>
      <p:sp>
        <p:nvSpPr>
          <p:cNvPr id="6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1041-E402-4DEB-B0C5-1FF3B5538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701640"/>
            <a:ext cx="4670640" cy="3503520"/>
          </a:xfrm>
          <a:prstGeom prst="rect">
            <a:avLst/>
          </a:prstGeom>
          <a:ln w="0">
            <a:noFill/>
          </a:ln>
        </p:spPr>
      </p:sp>
      <p:sp>
        <p:nvSpPr>
          <p:cNvPr id="6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AB42-11D6-4BE0-9903-003362E26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C67E0-506E-4371-A643-96B511EE7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9B83E-7F6B-4197-95EA-469052A83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1D1B02F-AD0B-4BC5-B9E1-8BA4E7DA00E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DEDA23B-9F17-4A7A-A2EA-2E573F68402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9FA894D-C974-4188-BEA7-521FAEC503C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E055F71-FD78-400C-8939-B26CF261F7E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9092673-A070-4942-84FF-2F1DAE09C53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70A82CC-797A-41CD-AB82-CEC72C72ED7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A9063D6-3536-4947-8B26-45F1AF6C4D9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84AF937-D9C7-4469-ABD8-4354EDE829C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E95B0B6-C270-429E-B836-A0302A8AAE7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420E6B4-56A9-4857-8E7F-9D1C4ED87CF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71282-5E58-4FB8-A2B0-04757E6E1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9D89658-057F-4898-A1EE-827E36A5DF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0D70461-6407-4666-85CF-3FC54F9DFA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D7B7FF6-DF95-48FF-9772-210D927EAC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F6D5A03-00A1-4567-874C-BE17411E1C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3037818-83BA-4C2C-BBFC-8380F4DDE9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EEE3194-20D4-4BAD-B201-1EBC8F4DC7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23CCBEC-F81B-493A-8068-6FC90F6796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69EED71-B146-4F9F-8AFD-11E94543AF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D7AA6A3-4219-4DAB-A2FC-B267DAAE9E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7A95A25-1001-4F4A-8144-C28682D713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24C25-7276-40D9-B058-24B9908D8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46CB8A5-8066-4DFC-AE91-A748166EF3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D169B0-8E4B-4096-ABA2-B200D5F49D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06437F-BCD0-4A91-B5C4-AE8B73A83C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8B148E-CE9F-4A0F-A65C-4D3414AE7D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576D93-06AC-4E90-B07A-49CD2A5872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33F2EB-D75C-4737-A3D5-C7F52FFA70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E36664-75A8-498B-9CA2-8E740AD941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F9D62A-1458-43B3-871C-D8028C265D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56E860-CED4-431D-B24F-BEA4081A36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3905E6-99F7-4C2D-B93D-8EAD6DEEED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A6BE9-526A-4804-A99D-ECF1957BF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C35D9C-DE4F-47F8-AD82-39A6C08520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E18613-8C87-40DC-8983-97DF2B5D6D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9FB62F-62D9-4A23-9E59-84B873AB31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7B8D0EB-328C-4C3F-9C4A-4009B7BA07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674777E-0AC9-4CEE-8E23-65A76F4BCD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A741F89-DE01-496D-A8A5-42E913740A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33AF161-3F1E-4AB3-81F4-C88B7E2967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B0B7ED2-93EA-4507-96B2-6D08308A09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1AE338D-C4BA-4784-B490-08EF7C13DF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0E2FD05-0717-42AB-B3BE-2811BE332C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DB55D-CBA2-426F-8A16-35D39D700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696B5AD-E54C-4684-B87A-6CC63E3139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4A53AAA-3B7B-4176-BFEF-EB583DA91D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2B2C8DE-BB99-4B08-897F-CEADB79DAB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F2382FB-32CD-4DA2-B1C3-7F97F47BDB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F5AEF0B-65F0-4C99-ACD5-1DCD600187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25F6A-EDCC-4973-9704-8B0B1EF5C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A8DCF-85AB-4A66-859E-650F8B587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5C643-591A-48E6-9A21-48F9E3650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7EBF8-DC51-4930-B239-C8E6713D2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3E768-7020-4DD7-9F86-1585CBCE7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9A78-20C8-4508-824E-DC827DE9A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CA244-3B35-4CED-908B-A3A3602B4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902D9C-DFCE-4D65-8FB9-DFC461B77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70015-C0C4-49DF-85CA-722B00C3B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DFE5C-D4E5-4281-BFD1-BB7C7F567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D7DCB-C2BE-4645-B37A-130CD454F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25A084-DC46-434D-8471-DCF2447D35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68F08-A555-43A1-BF5F-CBD97508B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8493F-093D-455D-8E2D-C2F2155DA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79F4A-56B3-49C7-8E97-B79F8EE139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84487-5A0D-4B29-9763-2115C62B86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6E2CC-28CB-4502-92CF-14604DA2A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F8955B-98FB-49E6-A657-DB8C93E3C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4DE2E-0E41-486F-8D86-73213F939E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6FC1D-FFA0-4508-A8F4-B8629BF8C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05462-A4EC-4591-B2A9-8DD5E3A8B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C8802-E96A-438F-AC3F-43A87BE5F7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2581A3-5AA8-4EE7-A99D-BDB21A2E37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D3412B-2BDD-4F0E-9A4C-8BFC130962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192734E-5FF3-4341-943A-EC57AEA9A97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034F894-4DA3-416A-BCB8-854A0AC72FC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FF8D94B-E457-4618-B2B6-C502E4DD03E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652B-067E-490E-A3FB-EA4A221D7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E723C6E-5142-495C-A3C9-40EA147747D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0FD0565-546D-4EB2-8C15-BA06D11679A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E80933E-97BD-4977-82CA-573E66034EE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382FB6F-0A53-4B88-A889-78A6A8051F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60C2178-2EDD-444A-B1CB-4EA2AFAE60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19A172A-3566-47D6-93E8-689CED7B0A6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E690E17-82B7-4878-A238-C158FBF8B76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CD5FD56-9F3F-4A96-8FBF-1D64C4AD76C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30BEBEF-0A00-4AC6-B7C8-47C6E62AA8B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CAF179-BD40-42D6-A835-D69011E95D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0C92D-41DB-40AE-8737-D0A308092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05D3DD-A9FE-446A-AD6E-F617577AC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98C387-822B-4649-8EB6-7266FAA0F5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36D999-B483-421B-8EE2-4B5E0C03D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4B318C-08EE-4384-85E4-531148D3A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5B2E7-85CC-4B3D-97DB-75E260780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FDB8E-7FCE-43A3-8082-FEC4ED1D2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125E37-C1C9-4093-A384-B7271CCEA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5A39E2-9B31-4EE7-AE4E-BBFC99D0AC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6707D5-454A-43BB-B2DF-C982C92C11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05610F-49FF-4815-B1F6-67F09262EB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25038-E716-4F3D-BBEB-4FD97512E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DB6D00-8C1C-437D-8CEF-6EB3F8ACA5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1FA962-491B-4BCC-9A1E-3BDAC73E64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9A9345-8AE8-4A8D-9EFA-46563E5950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701E8-D7DC-4B50-869E-25627FDB50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629AF6-6FD7-4B8C-A17A-64AC6A83CF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DAFE2C-BD2D-496F-AF2B-67D27BB8A4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D93AE-3DA1-4130-A404-2F7B2B733B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D62D84-419B-462F-B67A-10C1240267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89C30-460D-4AA8-9616-348B2064F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014648-412B-48B4-8F50-996418F43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CECB-9F01-4E6C-B881-075852C3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82B28B-6944-4F58-B266-893492BBCF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95E11C-C06B-47FB-B8A3-B90D0230BA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9FCF9C-FE53-448F-BE8C-80CBF2005A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E894F8-AF66-467E-BD9C-9B90A1666F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433497-705F-4D09-9723-65D979534D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6B27B-5EA1-4724-9A37-0BFC2EB828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BC4A20-A21F-474E-BB71-25891BA203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E7BE4-1DC8-4CDE-B31D-41DDBBF503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E22E19-6E8B-4813-8193-827B3D4168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F0A4D0-5B63-431C-B4A5-04F2D2A77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7A008-3930-4690-81AB-B8CF3955A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413B2-8BD4-4F0C-AEB7-A6FBABF9EE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6E1D5-6A71-43A3-8C28-A5564D9F98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BB3235-3F8E-48F0-8DF5-0E32428F67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A9B4AC-8FD6-4D40-B24D-3CD149940E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CDBA73-355A-4111-A5C5-E419EFB1DF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ACFC66-6F1E-491C-8A31-A9357E0A25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875112-8DBB-4B23-8A17-3C3BDD4A46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AA867E-7FDA-410C-AB69-CCCA9BFFDE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B3A8B4-169D-4EC1-A085-F730319110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EC52EB-413B-42B1-94AD-0CF07A7BA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1676-9DF8-4EA0-B60A-B0941D003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F2472E-C5FD-449A-95FA-F1B50A5DC0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CE379B-1221-4811-BAC5-83BA8AEFAF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C06F39-702D-4ADB-A337-3B40244C9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45B47-64B7-446B-A083-A0AB95D13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D10DA5-D742-4508-BA6A-5EB4A070F6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E9FF8B-E7DE-4B58-B08B-EF5E3B0C8B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95D780-30D7-44F0-B9E2-8C4EA5879A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1A34ADE-B961-4BCC-B58A-A1909FCBAAE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BAE58F4-9AB3-4820-A689-4422CEBAE2F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C076B81-6EDD-426F-9134-A167E288D75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B647-9377-4C1D-B2B7-318D98F04937}"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F3AC-9FE6-40D4-AB71-84962D178C2C}"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5479-249C-44B4-A23C-5921F5BC69C8}"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EC6F-038B-45E9-AE6C-1728CC0116F2}"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E4A3-036C-482C-9B03-732D8AA5729B}"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3A25-FA83-4799-8721-BD8AFD25BB60}"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01E2-E30D-4CEA-A903-6FC8B05A82ED}"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7552-124F-42D1-AAE3-1B4C63AB4E36}"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15EC-4CFB-46AD-94C0-8D788E1F3F91}"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60E92-FAC4-44AA-B758-3D7B2BF25BB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23F3-BD09-431E-83C6-AEFDD09E7F94}"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8F35-ED2F-4DC8-84C4-8F975359CF5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4F44-3D30-41C2-9257-32DD6F83B692}"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280D-C4B1-41FB-BB02-802ACAC43610}"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6C4A-679C-44B4-A837-544E55784B7A}"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6FF1-0E48-4969-8832-A0B66EC3003F}"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2658-EE35-48A2-82E2-7ECB723D85D9}"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8BC4-ED1B-4437-9683-EA07B3466017}"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E8EB-EB6E-4D1E-B6AB-06047523E246}"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9A06-3067-4542-88B4-84F280CBCF8A}"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C129-7CFB-49BB-B52E-7605F1D07F27}"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03B3-F23B-48E5-B2B0-FB8246BF62A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885E-D81E-4661-A252-F40B394B4FF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89A6-CA97-4313-B31F-D6C8C4748E6E}"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69880" y="3886200"/>
            <a:ext cx="815328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f3f3f"/>
                </a:solidFill>
                <a:latin typeface="Georgia"/>
              </a:rPr>
              <a:t>Innovations for Poverty Action</a:t>
            </a:r>
            <a:br>
              <a:rPr sz="4300"/>
            </a:br>
            <a:r>
              <a:rPr b="0" lang="en-US" sz="2800" spc="-1" strike="noStrike">
                <a:solidFill>
                  <a:srgbClr val="3f3f3f"/>
                </a:solidFill>
                <a:latin typeface="Georgia"/>
              </a:rPr>
              <a:t>Evaluating the Impact of Agricultural Development Programs</a:t>
            </a:r>
            <a:br>
              <a:rPr sz="2800"/>
            </a:br>
            <a:br>
              <a:rPr sz="1800"/>
            </a:br>
            <a:r>
              <a:rPr b="0" lang="en-US" sz="1800" spc="-1" strike="noStrike">
                <a:solidFill>
                  <a:srgbClr val="3f3f3f"/>
                </a:solidFill>
                <a:latin typeface="Georgia"/>
              </a:rPr>
              <a:t>Africa Rising</a:t>
            </a:r>
            <a:br>
              <a:rPr sz="1800"/>
            </a:br>
            <a:r>
              <a:rPr b="0" lang="en-US" sz="1800" spc="-1" strike="noStrike">
                <a:solidFill>
                  <a:srgbClr val="3f3f3f"/>
                </a:solidFill>
                <a:latin typeface="Georgia"/>
              </a:rPr>
              <a:t>23 October 2012 </a:t>
            </a:r>
            <a:endParaRPr b="0" lang="en-US" sz="1800" spc="-1" strike="noStrike">
              <a:solidFill>
                <a:srgbClr val="7b9899"/>
              </a:solidFill>
              <a:latin typeface="Georgia"/>
            </a:endParaRPr>
          </a:p>
        </p:txBody>
      </p:sp>
      <p:pic>
        <p:nvPicPr>
          <p:cNvPr id="614" name="Picture 4" descr="corn-field.jpeg"/>
          <p:cNvPicPr/>
          <p:nvPr/>
        </p:nvPicPr>
        <p:blipFill>
          <a:blip r:embed="rId1"/>
          <a:stretch/>
        </p:blipFill>
        <p:spPr>
          <a:xfrm>
            <a:off x="533520" y="396720"/>
            <a:ext cx="8153280" cy="329112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Disseminating Innovative Resources and Technologies to Smallholders</a:t>
            </a:r>
            <a:endParaRPr b="0" lang="en-US" sz="3600" spc="-1" strike="noStrike">
              <a:solidFill>
                <a:srgbClr val="000000"/>
              </a:solidFill>
              <a:latin typeface="Georgia"/>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EUI and DIRTS</a:t>
            </a:r>
            <a:endParaRPr b="0" lang="en-US" sz="3300" spc="-1" strike="noStrike">
              <a:solidFill>
                <a:srgbClr val="7b9899"/>
              </a:solidFill>
              <a:latin typeface="Georgia"/>
            </a:endParaRPr>
          </a:p>
        </p:txBody>
      </p:sp>
      <p:sp>
        <p:nvSpPr>
          <p:cNvPr id="651" name=""/>
          <p:cNvSpPr txBox="1"/>
          <p:nvPr/>
        </p:nvSpPr>
        <p:spPr>
          <a:xfrm>
            <a:off x="457200" y="1392120"/>
            <a:ext cx="8229600" cy="278460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uestions that arise from EUI resul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we take advantage of increased investment by insured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farmers move away from risk-averse farming techniques, and towards profit maximiz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at influences investment decisions? Information? Access to fertilizer and seeds?</a:t>
            </a:r>
            <a:endParaRPr b="0" lang="en-US" sz="2000" spc="-1" strike="noStrike">
              <a:solidFill>
                <a:srgbClr val="000000"/>
              </a:solidFill>
              <a:latin typeface="Georgia"/>
            </a:endParaRPr>
          </a:p>
          <a:p>
            <a:pPr lvl="2" marL="593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15552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DIRTS (2013-2014) </a:t>
            </a:r>
            <a:endParaRPr b="0" lang="en-US" sz="3300" spc="-1" strike="noStrike">
              <a:solidFill>
                <a:srgbClr val="7b9899"/>
              </a:solidFill>
              <a:latin typeface="Georgia"/>
            </a:endParaRPr>
          </a:p>
        </p:txBody>
      </p:sp>
      <p:sp>
        <p:nvSpPr>
          <p:cNvPr id="653" name=""/>
          <p:cNvSpPr txBox="1"/>
          <p:nvPr/>
        </p:nvSpPr>
        <p:spPr>
          <a:xfrm>
            <a:off x="293760" y="1447560"/>
            <a:ext cx="8229600" cy="447516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IRTS</a:t>
            </a:r>
            <a:r>
              <a:rPr b="0" lang="en-US" sz="2000" spc="-1" strike="noStrike">
                <a:solidFill>
                  <a:srgbClr val="000000"/>
                </a:solidFill>
                <a:latin typeface="Georgia"/>
              </a:rPr>
              <a:t>: Disseminating Innovative Resources and Technologies to Smallhold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UDS, SARI, IFPRI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building on EUI findings, why are smallholder farm productivity and profitability levels so low, even when investment increase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risk aversion, limited access to quality inputs, limited access to good inform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varying combinations of:</a:t>
            </a:r>
            <a:endParaRPr b="0" lang="en-US" sz="20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drought index insura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ccess to improved-yield technologies an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Community Extension Agent (CEA) program</a:t>
            </a:r>
            <a:endParaRPr b="0" lang="en-US" sz="1800" spc="-1" strike="noStrike">
              <a:solidFill>
                <a:srgbClr val="000000"/>
              </a:solidFill>
              <a:latin typeface="Georgia"/>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5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Community Extension Agent Pilot</a:t>
            </a:r>
            <a:endParaRPr b="0" lang="en-US" sz="3600" spc="-1" strike="noStrike">
              <a:solidFill>
                <a:srgbClr val="000000"/>
              </a:solidFill>
              <a:latin typeface="Georgia"/>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28600" y="1523520"/>
            <a:ext cx="8648640" cy="48769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CEA</a:t>
            </a:r>
            <a:r>
              <a:rPr b="0" lang="en-GB" sz="2000" spc="-1" strike="noStrike">
                <a:solidFill>
                  <a:srgbClr val="000000"/>
                </a:solidFill>
                <a:latin typeface="Georgia"/>
              </a:rPr>
              <a:t>: Community Extension Agent program</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Partners</a:t>
            </a:r>
            <a:r>
              <a:rPr b="0" lang="en-GB" sz="2000" spc="-1" strike="noStrike">
                <a:solidFill>
                  <a:srgbClr val="000000"/>
                </a:solidFill>
                <a:latin typeface="Georgia"/>
              </a:rPr>
              <a:t>: IPA, MoFA, NRGP, Grameen Foundation </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Objective</a:t>
            </a:r>
            <a:r>
              <a:rPr b="0" lang="en-GB" sz="2000" spc="-1" strike="noStrike">
                <a:solidFill>
                  <a:srgbClr val="000000"/>
                </a:solidFill>
                <a:latin typeface="Georgia"/>
              </a:rPr>
              <a:t>: complement existing extension services by training  community members to use Android phones to provide better information resources to farm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As will be connected to AEAs, providing a link between AEAs and the commun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mproved information developed in content workshops with key stakeholders and experts made available through Grameen applic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Messaging allows for improved communication between supervisors, CEAs, AEAs, and community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raining provided through modules sent via phon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ollecting quality data through survey app </a:t>
            </a:r>
            <a:endParaRPr b="0" lang="en-US" sz="2000" spc="-1" strike="noStrike">
              <a:solidFill>
                <a:srgbClr val="000000"/>
              </a:solidFill>
              <a:latin typeface="Georgia"/>
            </a:endParaRPr>
          </a:p>
        </p:txBody>
      </p:sp>
      <p:sp>
        <p:nvSpPr>
          <p:cNvPr id="657" name="PlaceHolder 1"/>
          <p:cNvSpPr>
            <a:spLocks noGrp="1"/>
          </p:cNvSpPr>
          <p:nvPr>
            <p:ph type="title"/>
          </p:nvPr>
        </p:nvSpPr>
        <p:spPr>
          <a:xfrm>
            <a:off x="380520" y="167760"/>
            <a:ext cx="8534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CEA pilot (2012) </a:t>
            </a:r>
            <a:endParaRPr b="0" lang="en-US" sz="3300" spc="-1" strike="noStrike">
              <a:solidFill>
                <a:srgbClr val="7b9899"/>
              </a:solidFill>
              <a:latin typeface="Georgia"/>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Way Forward</a:t>
            </a:r>
            <a:endParaRPr b="0" lang="en-US" sz="3600" spc="-1" strike="noStrike">
              <a:solidFill>
                <a:srgbClr val="7b9899"/>
              </a:solidFill>
              <a:latin typeface="Georgia"/>
            </a:endParaRPr>
          </a:p>
        </p:txBody>
      </p:sp>
      <p:sp>
        <p:nvSpPr>
          <p:cNvPr id="65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Partnership Opportunities</a:t>
            </a:r>
            <a:endParaRPr b="0" lang="en-US" sz="3600" spc="-1" strike="noStrike">
              <a:solidFill>
                <a:srgbClr val="000000"/>
              </a:solidFill>
              <a:latin typeface="Georgia"/>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Partnership Opportunities: What we bring</a:t>
            </a:r>
            <a:endParaRPr b="0" lang="en-US" sz="3300" spc="-1" strike="noStrike">
              <a:solidFill>
                <a:srgbClr val="7b9899"/>
              </a:solidFill>
              <a:latin typeface="Georgia"/>
            </a:endParaRPr>
          </a:p>
        </p:txBody>
      </p:sp>
      <p:sp>
        <p:nvSpPr>
          <p:cNvPr id="66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gram evaluation study desig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collectio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mp;E tool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per</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ctronic</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ata quality protocols</a:t>
            </a:r>
            <a:endParaRPr b="0" lang="en-US" sz="1800" spc="-1" strike="noStrike">
              <a:solidFill>
                <a:srgbClr val="000000"/>
              </a:solidFill>
              <a:latin typeface="Georgia"/>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Georgia"/>
              </a:rPr>
              <a:t>Partnership Opportunities: What we are looking for</a:t>
            </a:r>
            <a:endParaRPr b="0" lang="en-US" sz="2800" spc="-1" strike="noStrike">
              <a:solidFill>
                <a:srgbClr val="7b9899"/>
              </a:solidFill>
              <a:latin typeface="Georgia"/>
            </a:endParaRPr>
          </a:p>
        </p:txBody>
      </p:sp>
      <p:sp>
        <p:nvSpPr>
          <p:cNvPr id="66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current project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ting agricultural research findings into best practices resources</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ntifying context-relevant technology input packages to test</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mobile extension programs </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community extension agent programs</a:t>
            </a:r>
            <a:endParaRPr b="0" lang="en-US" sz="18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ture project interests:</a:t>
            </a:r>
            <a:endParaRPr b="0" lang="en-US" sz="20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dentifying promising solutions for increasing farmer investment and profitability for evalua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hood nutri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ther issues of importance to development partners?</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Contact Information</a:t>
            </a:r>
            <a:endParaRPr b="0" lang="en-US" sz="3300" spc="-1" strike="noStrike">
              <a:solidFill>
                <a:srgbClr val="7b9899"/>
              </a:solidFill>
              <a:latin typeface="Georgia"/>
            </a:endParaRPr>
          </a:p>
        </p:txBody>
      </p:sp>
      <p:sp>
        <p:nvSpPr>
          <p:cNvPr id="665" name=""/>
          <p:cNvSpPr txBox="1"/>
          <p:nvPr/>
        </p:nvSpPr>
        <p:spPr>
          <a:xfrm>
            <a:off x="456840" y="1752120"/>
            <a:ext cx="8348760" cy="44960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nie Smith ◦ </a:t>
            </a:r>
            <a:r>
              <a:rPr b="0" lang="en-US" sz="2400" spc="-1" strike="noStrike" u="sng">
                <a:solidFill>
                  <a:srgbClr val="000000"/>
                </a:solidFill>
                <a:uFillTx/>
                <a:latin typeface="Georgia"/>
              </a:rPr>
              <a:t>rsmith@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enior Project Associate</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lizabeth Schultz◦ </a:t>
            </a:r>
            <a:r>
              <a:rPr b="0" lang="en-US" sz="2400" spc="-1" strike="noStrike" u="sng">
                <a:solidFill>
                  <a:srgbClr val="000000"/>
                </a:solidFill>
                <a:uFillTx/>
                <a:latin typeface="Georgia"/>
              </a:rPr>
              <a:t>eschultz@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Ghana Research Cluster Manager</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mp;E Tools</a:t>
            </a:r>
            <a:endParaRPr b="0" lang="en-US" sz="3600" spc="-1" strike="noStrike">
              <a:solidFill>
                <a:srgbClr val="7b9899"/>
              </a:solidFill>
              <a:latin typeface="Georgia"/>
            </a:endParaRPr>
          </a:p>
        </p:txBody>
      </p:sp>
      <p:sp>
        <p:nvSpPr>
          <p:cNvPr id="667"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M&amp;E Tools: Quality Data for Quality Evaluation</a:t>
            </a:r>
            <a:endParaRPr b="0" lang="en-US" sz="3600" spc="-1" strike="noStrike">
              <a:solidFill>
                <a:srgbClr val="000000"/>
              </a:solidFill>
              <a:latin typeface="Georgia"/>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Agenda</a:t>
            </a:r>
            <a:endParaRPr b="0" lang="en-US" sz="3300" spc="-1" strike="noStrike">
              <a:solidFill>
                <a:srgbClr val="7b9899"/>
              </a:solidFill>
              <a:latin typeface="Georgia"/>
            </a:endParaRPr>
          </a:p>
        </p:txBody>
      </p:sp>
      <p:sp>
        <p:nvSpPr>
          <p:cNvPr id="616"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roduction: IPA and our research method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PA Agricultural Research Project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mp;E Tool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Way Forward</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Why?</a:t>
            </a:r>
            <a:endParaRPr b="0" lang="en-US" sz="3300" spc="-1" strike="noStrike">
              <a:solidFill>
                <a:srgbClr val="7b9899"/>
              </a:solidFill>
              <a:latin typeface="Georgia"/>
            </a:endParaRPr>
          </a:p>
        </p:txBody>
      </p:sp>
      <p:sp>
        <p:nvSpPr>
          <p:cNvPr id="669" name=""/>
          <p:cNvSpPr txBox="1"/>
          <p:nvPr/>
        </p:nvSpPr>
        <p:spPr>
          <a:xfrm>
            <a:off x="33444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being implemented?</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cord keeping by implementing ag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ot check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views with program recipi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nding tracking</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influencing outcomes as measured by key indicato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ministrative data (eg. Fertilizer sal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eg. Farmer-reported use of fertilizer)</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ational data (eg. Fertilizer use witnessed by enumerators)</a:t>
            </a:r>
            <a:endParaRPr b="0" lang="en-US" sz="2000" spc="-1" strike="noStrike">
              <a:solidFill>
                <a:srgbClr val="000000"/>
              </a:solidFill>
              <a:latin typeface="Georgia"/>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How?</a:t>
            </a:r>
            <a:endParaRPr b="0" lang="en-US" sz="3300" spc="-1" strike="noStrike">
              <a:solidFill>
                <a:srgbClr val="7b9899"/>
              </a:solidFill>
              <a:latin typeface="Georgia"/>
            </a:endParaRPr>
          </a:p>
        </p:txBody>
      </p:sp>
      <p:sp>
        <p:nvSpPr>
          <p:cNvPr id="67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low investment, easy to teach</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eld monitoring record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survey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ectronic: fast, additional data collection capabiliti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tbooks: electronic survey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automatic recording of database use patterns by CEA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collection of GPS coordinates for monitoring</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frequent labor use data collection by CEA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Ensuring Quality</a:t>
            </a:r>
            <a:endParaRPr b="0" lang="en-US" sz="3300" spc="-1" strike="noStrike">
              <a:solidFill>
                <a:srgbClr val="7b9899"/>
              </a:solidFill>
              <a:latin typeface="Georgia"/>
            </a:endParaRPr>
          </a:p>
        </p:txBody>
      </p:sp>
      <p:sp>
        <p:nvSpPr>
          <p:cNvPr id="67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llect the right data</a:t>
            </a:r>
            <a:endParaRPr b="0" lang="en-US" sz="2000" spc="-1" strike="noStrike">
              <a:solidFill>
                <a:srgbClr val="000000"/>
              </a:solidFill>
              <a:latin typeface="Georgia"/>
            </a:endParaRPr>
          </a:p>
          <a:p>
            <a:pPr lvl="1" marL="27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data source biased?</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the data source have the capacity to do quality data collection?</a:t>
            </a:r>
            <a:endParaRPr b="0" lang="en-US" sz="20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me</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raining </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ols</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unds</a:t>
            </a:r>
            <a:endParaRPr b="0" lang="en-US" sz="1800" spc="-1" strike="noStrike">
              <a:solidFill>
                <a:srgbClr val="000000"/>
              </a:solidFill>
              <a:latin typeface="Georgia"/>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Introduction</a:t>
            </a:r>
            <a:endParaRPr b="0" lang="en-US" sz="3300" spc="-1" strike="noStrike">
              <a:solidFill>
                <a:srgbClr val="7b9899"/>
              </a:solidFill>
              <a:latin typeface="Georgia"/>
            </a:endParaRPr>
          </a:p>
        </p:txBody>
      </p:sp>
      <p:sp>
        <p:nvSpPr>
          <p:cNvPr id="618"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Introduction to IPA </a:t>
            </a:r>
            <a:br>
              <a:rPr sz="3600"/>
            </a:br>
            <a:r>
              <a:rPr b="0" lang="en-GB" sz="3600" spc="-1" strike="noStrike">
                <a:solidFill>
                  <a:srgbClr val="000000"/>
                </a:solidFill>
                <a:latin typeface="Georgia"/>
              </a:rPr>
              <a:t>and IPA’s research method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does IPA do?</a:t>
            </a:r>
            <a:endParaRPr b="0" lang="en-US" sz="3300" spc="-1" strike="noStrike">
              <a:solidFill>
                <a:srgbClr val="7b9899"/>
              </a:solidFill>
              <a:latin typeface="Georgia"/>
            </a:endParaRPr>
          </a:p>
        </p:txBody>
      </p:sp>
      <p:sp>
        <p:nvSpPr>
          <p:cNvPr id="620"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2002 to measure the effects of poverty alleviation programs</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randomized controlled trial (RCT) method of rigorous evaluation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orks in the areas of agriculture, health, education, microfinance, water and sanitation, and governance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penly shares findings about what does and doesn’t work with policymakers, donors, practitioners, researchers and other critical stakeholders </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Ghana in 2007</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going national and regional projects in agriculture, education, health and microfinance </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is randomized control trial evaluation?</a:t>
            </a:r>
            <a:endParaRPr b="0" lang="en-US" sz="3300" spc="-1" strike="noStrike">
              <a:solidFill>
                <a:srgbClr val="7b9899"/>
              </a:solidFill>
              <a:latin typeface="Georgia"/>
            </a:endParaRPr>
          </a:p>
        </p:txBody>
      </p:sp>
      <p:pic>
        <p:nvPicPr>
          <p:cNvPr id="622" name="Picture 2" descr="http://food.phillipmartin.info/science_corn_plant.gif"/>
          <p:cNvPicPr/>
          <p:nvPr/>
        </p:nvPicPr>
        <p:blipFill>
          <a:blip r:embed="rId1"/>
          <a:stretch/>
        </p:blipFill>
        <p:spPr>
          <a:xfrm>
            <a:off x="2286000" y="2792520"/>
            <a:ext cx="2143080" cy="3598920"/>
          </a:xfrm>
          <a:prstGeom prst="rect">
            <a:avLst/>
          </a:prstGeom>
          <a:ln w="0">
            <a:noFill/>
          </a:ln>
        </p:spPr>
      </p:pic>
      <p:pic>
        <p:nvPicPr>
          <p:cNvPr id="623" name="Picture 4" descr="http://food.phillipmartin.info/science_corn_plant.gif"/>
          <p:cNvPicPr/>
          <p:nvPr/>
        </p:nvPicPr>
        <p:blipFill>
          <a:blip r:embed="rId2"/>
          <a:stretch/>
        </p:blipFill>
        <p:spPr>
          <a:xfrm>
            <a:off x="4429080" y="1417680"/>
            <a:ext cx="2392560" cy="4952880"/>
          </a:xfrm>
          <a:prstGeom prst="rect">
            <a:avLst/>
          </a:prstGeom>
          <a:ln w="0">
            <a:noFill/>
          </a:ln>
        </p:spPr>
      </p:pic>
      <p:sp>
        <p:nvSpPr>
          <p:cNvPr id="624" name="TextBox 2"/>
          <p:cNvSpPr/>
          <p:nvPr/>
        </p:nvSpPr>
        <p:spPr>
          <a:xfrm>
            <a:off x="538920" y="41148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625" name="TextBox 7"/>
          <p:cNvSpPr/>
          <p:nvPr/>
        </p:nvSpPr>
        <p:spPr>
          <a:xfrm>
            <a:off x="7237800" y="406728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p:txBody>
      </p:sp>
      <p:sp>
        <p:nvSpPr>
          <p:cNvPr id="626" name="Left Brace 3"/>
          <p:cNvSpPr/>
          <p:nvPr/>
        </p:nvSpPr>
        <p:spPr>
          <a:xfrm>
            <a:off x="1684440" y="1569960"/>
            <a:ext cx="444240" cy="1265400"/>
          </a:xfrm>
          <a:custGeom>
            <a:avLst/>
            <a:gdLst>
              <a:gd name="textAreaLeft" fmla="*/ 284040 w 444240"/>
              <a:gd name="textAreaRight" fmla="*/ 444600 w 444240"/>
              <a:gd name="textAreaTop" fmla="*/ 11520 h 1265400"/>
              <a:gd name="textAreaBottom" fmla="*/ 1253880 h 1265400"/>
            </a:gdLst>
            <a:ahLst/>
            <a:rect l="textAreaLeft" t="textAreaTop" r="textAreaRight" b="textAreaBottom"/>
            <a:pathLst>
              <a:path w="21600" h="21600">
                <a:moveTo>
                  <a:pt x="21600" y="0"/>
                </a:moveTo>
                <a:cubicBezTo>
                  <a:pt x="16200" y="0"/>
                  <a:pt x="10800" y="316"/>
                  <a:pt x="10800" y="632"/>
                </a:cubicBezTo>
                <a:lnTo>
                  <a:pt x="10800" y="10168"/>
                </a:lnTo>
                <a:cubicBezTo>
                  <a:pt x="10800" y="10484"/>
                  <a:pt x="5400" y="10800"/>
                  <a:pt x="0" y="10800"/>
                </a:cubicBezTo>
                <a:cubicBezTo>
                  <a:pt x="5400" y="10800"/>
                  <a:pt x="10800" y="11116"/>
                  <a:pt x="10800" y="11432"/>
                </a:cubicBezTo>
                <a:lnTo>
                  <a:pt x="10800" y="20968"/>
                </a:lnTo>
                <a:cubicBezTo>
                  <a:pt x="10800" y="2128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9"/>
          <p:cNvSpPr/>
          <p:nvPr/>
        </p:nvSpPr>
        <p:spPr>
          <a:xfrm>
            <a:off x="624960" y="20019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628" name="Straight Connector 2"/>
          <p:cNvSpPr/>
          <p:nvPr/>
        </p:nvSpPr>
        <p:spPr>
          <a:xfrm>
            <a:off x="2286000" y="15699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10"/>
          <p:cNvSpPr/>
          <p:nvPr/>
        </p:nvSpPr>
        <p:spPr>
          <a:xfrm>
            <a:off x="2327400" y="28353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Our Approach</a:t>
            </a:r>
            <a:endParaRPr b="0" lang="en-US" sz="3300" spc="-1" strike="noStrike">
              <a:solidFill>
                <a:srgbClr val="7b9899"/>
              </a:solidFill>
              <a:latin typeface="Georgia"/>
            </a:endParaRPr>
          </a:p>
        </p:txBody>
      </p:sp>
      <p:sp>
        <p:nvSpPr>
          <p:cNvPr id="631" name="TextBox 13"/>
          <p:cNvSpPr/>
          <p:nvPr/>
        </p:nvSpPr>
        <p:spPr>
          <a:xfrm>
            <a:off x="228600" y="1390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c2c2c"/>
                </a:solidFill>
                <a:latin typeface="Times New Roman"/>
              </a:rPr>
              <a:t>We generate insights on what works and what does not through randomized evaluations, and ensure that those findings will be useful to, and used by practitioners and policy makers</a:t>
            </a:r>
            <a:endParaRPr b="0" lang="en-US" sz="1800" spc="-1" strike="noStrike">
              <a:solidFill>
                <a:srgbClr val="000000"/>
              </a:solidFill>
              <a:latin typeface="Arial"/>
            </a:endParaRPr>
          </a:p>
        </p:txBody>
      </p:sp>
      <p:sp>
        <p:nvSpPr>
          <p:cNvPr id="632" name="Pentagon 4"/>
          <p:cNvSpPr/>
          <p:nvPr/>
        </p:nvSpPr>
        <p:spPr>
          <a:xfrm>
            <a:off x="2286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novate</a:t>
            </a:r>
            <a:endParaRPr b="0" lang="en-US" sz="1800" spc="-1" strike="noStrike">
              <a:solidFill>
                <a:srgbClr val="000000"/>
              </a:solidFill>
              <a:latin typeface="Arial"/>
            </a:endParaRPr>
          </a:p>
        </p:txBody>
      </p:sp>
      <p:sp>
        <p:nvSpPr>
          <p:cNvPr id="633" name="Chevron 5"/>
          <p:cNvSpPr/>
          <p:nvPr/>
        </p:nvSpPr>
        <p:spPr>
          <a:xfrm>
            <a:off x="190512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luate</a:t>
            </a:r>
            <a:endParaRPr b="0" lang="en-US" sz="1800" spc="-1" strike="noStrike">
              <a:solidFill>
                <a:srgbClr val="000000"/>
              </a:solidFill>
              <a:latin typeface="Arial"/>
            </a:endParaRPr>
          </a:p>
        </p:txBody>
      </p:sp>
      <p:sp>
        <p:nvSpPr>
          <p:cNvPr id="634" name="Chevron 6"/>
          <p:cNvSpPr/>
          <p:nvPr/>
        </p:nvSpPr>
        <p:spPr>
          <a:xfrm>
            <a:off x="3581280" y="2286000"/>
            <a:ext cx="1981440" cy="762120"/>
          </a:xfrm>
          <a:custGeom>
            <a:avLst/>
            <a:gdLst>
              <a:gd name="textAreaLeft" fmla="*/ 0 w 1981440"/>
              <a:gd name="textAreaRight" fmla="*/ 1981800 w 198144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licate</a:t>
            </a:r>
            <a:endParaRPr b="0" lang="en-US" sz="1800" spc="-1" strike="noStrike">
              <a:solidFill>
                <a:srgbClr val="000000"/>
              </a:solidFill>
              <a:latin typeface="Arial"/>
            </a:endParaRPr>
          </a:p>
        </p:txBody>
      </p:sp>
      <p:sp>
        <p:nvSpPr>
          <p:cNvPr id="635" name="Chevron 7"/>
          <p:cNvSpPr/>
          <p:nvPr/>
        </p:nvSpPr>
        <p:spPr>
          <a:xfrm>
            <a:off x="52578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uni-cate</a:t>
            </a:r>
            <a:endParaRPr b="0" lang="en-US" sz="1800" spc="-1" strike="noStrike">
              <a:solidFill>
                <a:srgbClr val="000000"/>
              </a:solidFill>
              <a:latin typeface="Arial"/>
            </a:endParaRPr>
          </a:p>
        </p:txBody>
      </p:sp>
      <p:sp>
        <p:nvSpPr>
          <p:cNvPr id="636" name="Chevron 8"/>
          <p:cNvSpPr/>
          <p:nvPr/>
        </p:nvSpPr>
        <p:spPr>
          <a:xfrm>
            <a:off x="6934320" y="2286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ale</a:t>
            </a:r>
            <a:endParaRPr b="0" lang="en-US" sz="1800" spc="-1" strike="noStrike">
              <a:solidFill>
                <a:srgbClr val="000000"/>
              </a:solidFill>
              <a:latin typeface="Arial"/>
            </a:endParaRPr>
          </a:p>
        </p:txBody>
      </p:sp>
      <p:sp>
        <p:nvSpPr>
          <p:cNvPr id="637" name="Rectangle 9"/>
          <p:cNvSpPr/>
          <p:nvPr/>
        </p:nvSpPr>
        <p:spPr>
          <a:xfrm>
            <a:off x="2286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derstand market failur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velop innovative solutions to poverty</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se frontier knowledge from economics,  and psychology</a:t>
            </a:r>
            <a:endParaRPr b="0" lang="en-US" sz="1600" spc="-1" strike="noStrike">
              <a:solidFill>
                <a:srgbClr val="000000"/>
              </a:solidFill>
              <a:latin typeface="Arial"/>
            </a:endParaRPr>
          </a:p>
        </p:txBody>
      </p:sp>
      <p:sp>
        <p:nvSpPr>
          <p:cNvPr id="638" name="Rectangle 10"/>
          <p:cNvSpPr/>
          <p:nvPr/>
        </p:nvSpPr>
        <p:spPr>
          <a:xfrm>
            <a:off x="19051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andomized Controlled Trial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mpact evaluation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Comparing variations  of an intervention</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Experiment with product designs</a:t>
            </a:r>
            <a:endParaRPr b="0" lang="en-US" sz="1600" spc="-1" strike="noStrike">
              <a:solidFill>
                <a:srgbClr val="000000"/>
              </a:solidFill>
              <a:latin typeface="Arial"/>
            </a:endParaRPr>
          </a:p>
        </p:txBody>
      </p:sp>
      <p:sp>
        <p:nvSpPr>
          <p:cNvPr id="639" name="Rectangle 11"/>
          <p:cNvSpPr/>
          <p:nvPr/>
        </p:nvSpPr>
        <p:spPr>
          <a:xfrm>
            <a:off x="358128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plicate evaluations in various settings 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Generalize research finding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ell practitioners what works (and not), when</a:t>
            </a:r>
            <a:endParaRPr b="0" lang="en-US" sz="1600" spc="-1" strike="noStrike">
              <a:solidFill>
                <a:srgbClr val="000000"/>
              </a:solidFill>
              <a:latin typeface="Arial"/>
            </a:endParaRPr>
          </a:p>
        </p:txBody>
      </p:sp>
      <p:sp>
        <p:nvSpPr>
          <p:cNvPr id="640" name="Rectangle 12"/>
          <p:cNvSpPr/>
          <p:nvPr/>
        </p:nvSpPr>
        <p:spPr>
          <a:xfrm>
            <a:off x="52578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ffectively communicate to practitioner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ferenc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orkshops with policy makers and practitioner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olicy memos and focus notes</a:t>
            </a:r>
            <a:endParaRPr b="0" lang="en-US" sz="1600" spc="-1" strike="noStrike">
              <a:solidFill>
                <a:srgbClr val="000000"/>
              </a:solidFill>
              <a:latin typeface="Arial"/>
            </a:endParaRPr>
          </a:p>
        </p:txBody>
      </p:sp>
      <p:sp>
        <p:nvSpPr>
          <p:cNvPr id="641" name="Rectangle 13"/>
          <p:cNvSpPr/>
          <p:nvPr/>
        </p:nvSpPr>
        <p:spPr>
          <a:xfrm>
            <a:off x="69343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cilitate scale-up of effective solution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Active policy outreach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actitioners’ toolk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Hands-on technical assistance</a:t>
            </a:r>
            <a:endParaRPr b="0" lang="en-US" sz="16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47760" y="1379160"/>
            <a:ext cx="8229600" cy="4754520"/>
          </a:xfrm>
          <a:prstGeom prst="rect">
            <a:avLst/>
          </a:prstGeom>
          <a:noFill/>
          <a:ln w="0">
            <a:noFill/>
          </a:ln>
        </p:spPr>
        <p:txBody>
          <a:bodyPr anchor="t">
            <a:normAutofit/>
          </a:bodyPr>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urprisingly little hard evidence on what works</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do more with given budget with better evidence</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people knew money was going to programs that worked, could help increase pot for anti-poverty programs</a:t>
            </a:r>
            <a:endParaRPr b="0" lang="en-US" sz="2600" spc="-1" strike="noStrike">
              <a:solidFill>
                <a:srgbClr val="000000"/>
              </a:solidFill>
              <a:latin typeface="Georgia"/>
            </a:endParaRPr>
          </a:p>
          <a:p>
            <a:pPr marL="272880" indent="-272880">
              <a:lnSpc>
                <a:spcPct val="90000"/>
              </a:lnSpc>
              <a:spcBef>
                <a:spcPts val="224"/>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 should be asking:</a:t>
            </a:r>
            <a:endParaRPr b="0" lang="en-US" sz="26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ich programs work best, why and when?</a:t>
            </a:r>
            <a:endParaRPr b="0" lang="en-US" sz="22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ow can we scale up what works?</a:t>
            </a:r>
            <a:endParaRPr b="0" lang="en-US" sz="2200" spc="-1" strike="noStrike">
              <a:solidFill>
                <a:srgbClr val="000000"/>
              </a:solidFill>
              <a:latin typeface="Georgia"/>
            </a:endParaRPr>
          </a:p>
          <a:p>
            <a:pPr marL="272880" indent="-272880">
              <a:lnSpc>
                <a:spcPct val="90000"/>
              </a:lnSpc>
              <a:spcBef>
                <a:spcPts val="675"/>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457200" y="274320"/>
            <a:ext cx="784872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y Impact Evaluation? </a:t>
            </a:r>
            <a:endParaRPr b="0" lang="en-US" sz="3300" spc="-1" strike="noStrike">
              <a:solidFill>
                <a:srgbClr val="7b9899"/>
              </a:solidFill>
              <a:latin typeface="Georgia"/>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Examining Underinvestment in Agriculture</a:t>
            </a:r>
            <a:endParaRPr b="0" lang="en-US" sz="3600" spc="-1" strike="noStrike">
              <a:solidFill>
                <a:srgbClr val="000000"/>
              </a:solidFill>
              <a:latin typeface="Georgia"/>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EUI (2008-2012) </a:t>
            </a:r>
            <a:endParaRPr b="0" lang="en-US" sz="3300" spc="-1" strike="noStrike">
              <a:solidFill>
                <a:srgbClr val="7b9899"/>
              </a:solidFill>
              <a:latin typeface="Georgia"/>
            </a:endParaRPr>
          </a:p>
        </p:txBody>
      </p:sp>
      <p:sp>
        <p:nvSpPr>
          <p:cNvPr id="647" name=""/>
          <p:cNvSpPr txBox="1"/>
          <p:nvPr/>
        </p:nvSpPr>
        <p:spPr>
          <a:xfrm>
            <a:off x="457200" y="1392120"/>
            <a:ext cx="8229600" cy="46483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EUI</a:t>
            </a:r>
            <a:r>
              <a:rPr b="0" lang="en-US" sz="2000" spc="-1" strike="noStrike">
                <a:solidFill>
                  <a:srgbClr val="000000"/>
                </a:solidFill>
                <a:latin typeface="Georgia"/>
              </a:rPr>
              <a:t>: Examining Underinvestment in Agriculture</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and Ghana Leg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why do smallholders underinvest in farm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capital constraints and risk avers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unconditional cash grants and rainfall index insurance</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nding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ment effects</a:t>
            </a:r>
            <a:r>
              <a:rPr b="1" lang="en-US" sz="2000" spc="-1" strike="noStrike">
                <a:solidFill>
                  <a:srgbClr val="000000"/>
                </a:solidFill>
                <a:latin typeface="Georgia"/>
              </a:rPr>
              <a:t>: </a:t>
            </a:r>
            <a:r>
              <a:rPr b="0" lang="en-US" sz="2000" spc="-1" strike="noStrike">
                <a:solidFill>
                  <a:srgbClr val="000000"/>
                </a:solidFill>
                <a:latin typeface="Georgia"/>
              </a:rPr>
              <a:t>insurance significantly increased farm investment, while capital alone did not</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rofitability effects</a:t>
            </a:r>
            <a:r>
              <a:rPr b="0" lang="en-US" sz="2000" spc="-1" strike="noStrike">
                <a:solidFill>
                  <a:srgbClr val="000000"/>
                </a:solidFill>
                <a:latin typeface="Georgia"/>
              </a:rPr>
              <a:t>: higher investment did not lead to higher farm profitabil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surance demand</a:t>
            </a:r>
            <a:r>
              <a:rPr b="1" lang="en-US" sz="2000" spc="-1" strike="noStrike">
                <a:solidFill>
                  <a:srgbClr val="000000"/>
                </a:solidFill>
                <a:latin typeface="Georgia"/>
              </a:rPr>
              <a:t>: </a:t>
            </a:r>
            <a:r>
              <a:rPr b="0" lang="en-US" sz="2000" spc="-1" strike="noStrike">
                <a:solidFill>
                  <a:srgbClr val="000000"/>
                </a:solidFill>
                <a:latin typeface="Georgia"/>
              </a:rPr>
              <a:t>high, when priced reasonably </a:t>
            </a:r>
            <a:endParaRPr b="0" lang="en-US" sz="2000" spc="-1" strike="noStrike">
              <a:solidFill>
                <a:srgbClr val="000000"/>
              </a:solidFill>
              <a:latin typeface="Georgi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4:56:21Z</dcterms:created>
  <dc:creator>Asmith</dc:creator>
  <dc:description/>
  <dc:language>en-US</dc:language>
  <cp:lastModifiedBy>IITA</cp:lastModifiedBy>
  <dcterms:modified xsi:type="dcterms:W3CDTF">2012-10-23T13:14:45Z</dcterms:modified>
  <cp:revision>433</cp:revision>
  <dc:subject/>
  <dc:title>Slide 1</dc:title>
</cp:coreProperties>
</file>